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hapmap.org/index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hapmap.org/index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HapMap Project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15200" y="6257880"/>
            <a:ext cx="182880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HapMap Project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962520" cy="130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hapmap.org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apmap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hapmap.org/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Using HapMap.Org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Tutoria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coln Stein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d Spring Harbor Laborat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6: Adjust Track Settings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783" t="19107" r="3504" b="5572"/>
          <a:stretch/>
        </p:blipFill>
        <p:spPr>
          <a:xfrm>
            <a:off x="19080" y="1219320"/>
            <a:ext cx="9107280" cy="5387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47920" y="2438280"/>
            <a:ext cx="2971800" cy="685800"/>
          </a:xfrm>
          <a:prstGeom prst="wedgeRoundRectCallout">
            <a:avLst>
              <a:gd name="adj1" fmla="val 71847"/>
              <a:gd name="adj2" fmla="val 40277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a. Select the analysis track to adj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5257800"/>
            <a:ext cx="2971800" cy="685800"/>
          </a:xfrm>
          <a:prstGeom prst="wedgeRoundRectCallout">
            <a:avLst>
              <a:gd name="adj1" fmla="val 39745"/>
              <a:gd name="adj2" fmla="val -374305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b. Press “Configu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768" t="14849" r="4806" b="22479"/>
          <a:stretch/>
        </p:blipFill>
        <p:spPr>
          <a:xfrm>
            <a:off x="152280" y="1765440"/>
            <a:ext cx="8985240" cy="4483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6: Adjust Track Settings (cont)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1447920"/>
            <a:ext cx="2971800" cy="685800"/>
          </a:xfrm>
          <a:prstGeom prst="wedgeRoundRectCallout">
            <a:avLst>
              <a:gd name="adj1" fmla="val -52138"/>
              <a:gd name="adj2" fmla="val 158564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c. Adjust populations and display sett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724280"/>
            <a:ext cx="2971800" cy="685800"/>
          </a:xfrm>
          <a:prstGeom prst="wedgeRoundRectCallout">
            <a:avLst>
              <a:gd name="adj1" fmla="val -44763"/>
              <a:gd name="adj2" fmla="val -139583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d. Press “Configu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783" t="14131" r="4972" b="6768"/>
          <a:stretch/>
        </p:blipFill>
        <p:spPr>
          <a:xfrm>
            <a:off x="152280" y="1162080"/>
            <a:ext cx="8967960" cy="5695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7: Turn on Tag SNP Track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5562720"/>
            <a:ext cx="3048120" cy="1066680"/>
          </a:xfrm>
          <a:prstGeom prst="wedgeRoundRectCallout">
            <a:avLst>
              <a:gd name="adj1" fmla="val -42657"/>
              <a:gd name="adj2" fmla="val -101787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a. Activate the “tag SNP Picker” and press “Update Im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1093" t="14131" r="2823" b="9218"/>
          <a:stretch/>
        </p:blipFill>
        <p:spPr>
          <a:xfrm>
            <a:off x="0" y="1262160"/>
            <a:ext cx="9078840" cy="5519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8: Adjust Tagger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2362320"/>
            <a:ext cx="3048120" cy="1066680"/>
          </a:xfrm>
          <a:prstGeom prst="wedgeRoundRectCallout">
            <a:avLst>
              <a:gd name="adj1" fmla="val 43023"/>
              <a:gd name="adj2" fmla="val -123958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a. Select “Annotate tag SNP Picker” and press “Configure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581280"/>
            <a:ext cx="3503520" cy="1645200"/>
          </a:xfrm>
          <a:prstGeom prst="cloudCallout">
            <a:avLst>
              <a:gd name="adj1" fmla="val 39249"/>
              <a:gd name="adj2" fmla="val 940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tag SNPs are selected on the fly as you navigate around the gen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941" t="14751" r="6552" b="31967"/>
          <a:stretch/>
        </p:blipFill>
        <p:spPr>
          <a:xfrm>
            <a:off x="98280" y="1905120"/>
            <a:ext cx="8740800" cy="3836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8: Adjust Tagger (cont)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1523880"/>
            <a:ext cx="3503520" cy="519480"/>
          </a:xfrm>
          <a:prstGeom prst="cloudCallout">
            <a:avLst>
              <a:gd name="adj1" fmla="val -40671"/>
              <a:gd name="adj2" fmla="val 1560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ect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286000"/>
            <a:ext cx="3503880" cy="1270080"/>
          </a:xfrm>
          <a:prstGeom prst="cloudCallout">
            <a:avLst>
              <a:gd name="adj1" fmla="val -63495"/>
              <a:gd name="adj2" fmla="val 2582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ect tagging algorithm and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4648320"/>
            <a:ext cx="3503880" cy="1645200"/>
          </a:xfrm>
          <a:prstGeom prst="cloudCallout">
            <a:avLst>
              <a:gd name="adj1" fmla="val -43162"/>
              <a:gd name="adj2" fmla="val -812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optional] upload list of SNPs to be included, excluded, or design sc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943600"/>
            <a:ext cx="3047760" cy="685800"/>
          </a:xfrm>
          <a:prstGeom prst="wedgeRoundRectCallout">
            <a:avLst>
              <a:gd name="adj1" fmla="val -39842"/>
              <a:gd name="adj2" fmla="val -85185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b. Press “Configure” to sav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093" t="15366" r="2183" b="5754"/>
          <a:stretch/>
        </p:blipFill>
        <p:spPr>
          <a:xfrm>
            <a:off x="0" y="1177920"/>
            <a:ext cx="9139320" cy="5680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9: Generate Reports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2438280"/>
            <a:ext cx="3352680" cy="1067040"/>
          </a:xfrm>
          <a:prstGeom prst="wedgeRoundRectCallout">
            <a:avLst>
              <a:gd name="adj1" fmla="val 52319"/>
              <a:gd name="adj2" fmla="val 126935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 Select the desired “Download” option and press “Go” or “Configu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4503600"/>
            <a:ext cx="3503520" cy="2395800"/>
          </a:xfrm>
          <a:prstGeom prst="cloudCallout">
            <a:avLst>
              <a:gd name="adj1" fmla="val 70833"/>
              <a:gd name="adj2" fmla="val -1454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vailable Download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irwise LD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ele &amp; Genotype frequ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w gen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g SN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2034" t="20150" r="3124" b="6153"/>
          <a:stretch/>
        </p:blipFill>
        <p:spPr>
          <a:xfrm>
            <a:off x="106200" y="1371600"/>
            <a:ext cx="8961480" cy="53071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9: Generate Reports (cont)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676520"/>
            <a:ext cx="3503880" cy="2020320"/>
          </a:xfrm>
          <a:prstGeom prst="cloudCallout">
            <a:avLst>
              <a:gd name="adj1" fmla="val -40222"/>
              <a:gd name="adj2" fmla="val 737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Genotype download format can be saved to disk and loaded into Haplo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857" t="19310" r="8872" b="7673"/>
          <a:stretch/>
        </p:blipFill>
        <p:spPr>
          <a:xfrm>
            <a:off x="81000" y="1219320"/>
            <a:ext cx="8529480" cy="52578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9: Generate Reports (cont)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1731960"/>
            <a:ext cx="3503880" cy="1645560"/>
          </a:xfrm>
          <a:prstGeom prst="cloudCallout">
            <a:avLst>
              <a:gd name="adj1" fmla="val -40222"/>
              <a:gd name="adj2" fmla="val 6642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tag SNP download is the same as you get from TA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Generating Extracts of the HapMap Dataset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ll HapMap characterized SNPs tha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Have a MAF &gt; 0.2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Cause a nonsynonymous amino acid chan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1. Surf to hapmart.hapmap.org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1413" t="12897" r="2655" b="8998"/>
          <a:stretch/>
        </p:blipFill>
        <p:spPr>
          <a:xfrm>
            <a:off x="79200" y="1219320"/>
            <a:ext cx="9064800" cy="5624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0" y="4572000"/>
            <a:ext cx="3352680" cy="685800"/>
          </a:xfrm>
          <a:prstGeom prst="wedgeRoundRectCallout">
            <a:avLst>
              <a:gd name="adj1" fmla="val -63259"/>
              <a:gd name="adj2" fmla="val 157175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hapmap.or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click on “HapMa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Goal of This Tutorial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tutorial will show you how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HapMap SNPs near a gene or region of interest (ROI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ew patterns of LD in the RO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 tag SNPs in the RO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wnload information on the SNPs in ROI for use in Haploview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te customized extracts of the entire data s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wnload the entire data set in bul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3596" t="12832" r="3429" b="12962"/>
          <a:stretch/>
        </p:blipFill>
        <p:spPr>
          <a:xfrm>
            <a:off x="187200" y="1438200"/>
            <a:ext cx="8785440" cy="53434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. Select the population of interest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5791320"/>
            <a:ext cx="3353040" cy="685800"/>
          </a:xfrm>
          <a:prstGeom prst="wedgeRoundRectCallout">
            <a:avLst>
              <a:gd name="adj1" fmla="val -45171"/>
              <a:gd name="adj2" fmla="val -186111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a. Choose the population or “All Popula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1676520"/>
            <a:ext cx="3352680" cy="685800"/>
          </a:xfrm>
          <a:prstGeom prst="wedgeRoundRectCallout">
            <a:avLst>
              <a:gd name="adj1" fmla="val -31013"/>
              <a:gd name="adj2" fmla="val 198148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b. Press “Nex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6720" t="14131" r="7326" b="6153"/>
          <a:stretch/>
        </p:blipFill>
        <p:spPr>
          <a:xfrm>
            <a:off x="482760" y="1117440"/>
            <a:ext cx="8121600" cy="5740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3. Select the desired filter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676520"/>
            <a:ext cx="3124080" cy="914400"/>
          </a:xfrm>
          <a:prstGeom prst="wedgeRoundRectCallout">
            <a:avLst>
              <a:gd name="adj1" fmla="val -49287"/>
              <a:gd name="adj2" fmla="val 72050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a. Check “Allele Frequency Filter” and select MAF &gt;=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648320"/>
            <a:ext cx="3200400" cy="990360"/>
          </a:xfrm>
          <a:prstGeom prst="wedgeRoundRectCallout">
            <a:avLst>
              <a:gd name="adj1" fmla="val -27430"/>
              <a:gd name="adj2" fmla="val -112981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b. Select “SNPs found in Exons – synonymous coding SNP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1219320"/>
            <a:ext cx="2514600" cy="457200"/>
          </a:xfrm>
          <a:prstGeom prst="wedgeRoundRectCallout">
            <a:avLst>
              <a:gd name="adj1" fmla="val -58143"/>
              <a:gd name="adj2" fmla="val 45138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c. Press “Nex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11242" t="14551" r="12952" b="6748"/>
          <a:stretch/>
        </p:blipFill>
        <p:spPr>
          <a:xfrm>
            <a:off x="909720" y="1190520"/>
            <a:ext cx="7162560" cy="56674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4. Select output field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2133720"/>
            <a:ext cx="3124080" cy="685800"/>
          </a:xfrm>
          <a:prstGeom prst="wedgeRoundRectCallout">
            <a:avLst>
              <a:gd name="adj1" fmla="val -62041"/>
              <a:gd name="adj2" fmla="val 33101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a. Choose among several pages of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5181480"/>
            <a:ext cx="3200400" cy="762120"/>
          </a:xfrm>
          <a:prstGeom prst="wedgeRoundRectCallout">
            <a:avLst>
              <a:gd name="adj1" fmla="val -56944"/>
              <a:gd name="adj2" fmla="val -193750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b. Select the fields to include in the re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1143000"/>
            <a:ext cx="2514600" cy="457200"/>
          </a:xfrm>
          <a:prstGeom prst="wedgeRoundRectCallout">
            <a:avLst>
              <a:gd name="adj1" fmla="val -58712"/>
              <a:gd name="adj2" fmla="val 77430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c. Press “Expo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29400" y="2971800"/>
            <a:ext cx="2514600" cy="2020320"/>
          </a:xfrm>
          <a:prstGeom prst="cloudCallout">
            <a:avLst>
              <a:gd name="adj1" fmla="val -37319"/>
              <a:gd name="adj2" fmla="val 4607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mary shows active filters and # SNPs to be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5254560"/>
            <a:ext cx="2514600" cy="1645200"/>
          </a:xfrm>
          <a:prstGeom prst="cloudCallout">
            <a:avLst>
              <a:gd name="adj1" fmla="val -46222"/>
              <a:gd name="adj2" fmla="val 394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tions at the bottom let you select text or Excel form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5. Download repor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705" t="12947" r="5310" b="9277"/>
          <a:stretch/>
        </p:blipFill>
        <p:spPr>
          <a:xfrm>
            <a:off x="76320" y="1279440"/>
            <a:ext cx="8880480" cy="557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ownload the Complete Dat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wnload the entire HapMap data set to your own compu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Surf to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hapmap.org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1413" t="12897" r="2655" b="8998"/>
          <a:stretch/>
        </p:blipFill>
        <p:spPr>
          <a:xfrm>
            <a:off x="79200" y="1219320"/>
            <a:ext cx="9064800" cy="5624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286000" y="4572000"/>
            <a:ext cx="3809880" cy="762120"/>
          </a:xfrm>
          <a:prstGeom prst="wedgeRoundRectCallout">
            <a:avLst>
              <a:gd name="adj1" fmla="val -62041"/>
              <a:gd name="adj2" fmla="val 210000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www.hapmap.or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click on “Bulk Data Downloo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. Choose the Data Type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985" t="14293" r="2619" b="11016"/>
          <a:stretch/>
        </p:blipFill>
        <p:spPr>
          <a:xfrm>
            <a:off x="146160" y="1312920"/>
            <a:ext cx="8704080" cy="5392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800600" y="1905120"/>
            <a:ext cx="2514600" cy="519840"/>
          </a:xfrm>
          <a:prstGeom prst="cloudCallout">
            <a:avLst>
              <a:gd name="adj1" fmla="val -33782"/>
              <a:gd name="adj2" fmla="val 1273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w gen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2514600"/>
            <a:ext cx="2514600" cy="519840"/>
          </a:xfrm>
          <a:prstGeom prst="cloudCallout">
            <a:avLst>
              <a:gd name="adj1" fmla="val -49000"/>
              <a:gd name="adj2" fmla="val 13276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tic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581280"/>
            <a:ext cx="2514600" cy="1270080"/>
          </a:xfrm>
          <a:prstGeom prst="cloudCallout">
            <a:avLst>
              <a:gd name="adj1" fmla="val -61361"/>
              <a:gd name="adj2" fmla="val 4169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ele &amp; genotype frequ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4876920"/>
            <a:ext cx="1600200" cy="519840"/>
          </a:xfrm>
          <a:prstGeom prst="cloudCallout">
            <a:avLst>
              <a:gd name="adj1" fmla="val -69837"/>
              <a:gd name="adj2" fmla="val 604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s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4191120"/>
            <a:ext cx="2357640" cy="1645200"/>
          </a:xfrm>
          <a:prstGeom prst="cloudCallout">
            <a:avLst>
              <a:gd name="adj1" fmla="val -305"/>
              <a:gd name="adj2" fmla="val 6003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our own copy of the HapMap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1981080"/>
            <a:ext cx="2666880" cy="609840"/>
          </a:xfrm>
          <a:prstGeom prst="wedgeRoundRectCallout">
            <a:avLst>
              <a:gd name="adj1" fmla="val -46546"/>
              <a:gd name="adj2" fmla="val 95314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Select “Genotyp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650" t="16228" r="6964" b="9894"/>
          <a:stretch/>
        </p:blipFill>
        <p:spPr>
          <a:xfrm>
            <a:off x="115920" y="1295280"/>
            <a:ext cx="8342280" cy="5334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3. Choose the Desired Release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676520"/>
            <a:ext cx="2667240" cy="457200"/>
          </a:xfrm>
          <a:prstGeom prst="wedgeRoundRectCallout">
            <a:avLst>
              <a:gd name="adj1" fmla="val -57143"/>
              <a:gd name="adj2" fmla="val 120486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Select “lates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4. Choose the Dataset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304" t="15724" r="3763" b="7346"/>
          <a:stretch/>
        </p:blipFill>
        <p:spPr>
          <a:xfrm>
            <a:off x="266760" y="1227240"/>
            <a:ext cx="8572320" cy="5554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124080" y="1295280"/>
            <a:ext cx="2514600" cy="1270080"/>
          </a:xfrm>
          <a:prstGeom prst="cloudCallout">
            <a:avLst>
              <a:gd name="adj1" fmla="val -92166"/>
              <a:gd name="adj2" fmla="val 3594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C Filtered with duplicate data remo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514520"/>
            <a:ext cx="2514600" cy="1270080"/>
          </a:xfrm>
          <a:prstGeom prst="cloudCallout">
            <a:avLst>
              <a:gd name="adj1" fmla="val -92166"/>
              <a:gd name="adj2" fmla="val 3594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C filtered, duplicate data not remo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1687680"/>
            <a:ext cx="2514600" cy="1645200"/>
          </a:xfrm>
          <a:prstGeom prst="cloudCallout">
            <a:avLst>
              <a:gd name="adj1" fmla="val -88060"/>
              <a:gd name="adj2" fmla="val 1692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 filtered, reudundant data not remo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371600"/>
            <a:ext cx="2895480" cy="685800"/>
          </a:xfrm>
          <a:prstGeom prst="wedgeRoundRectCallout">
            <a:avLst>
              <a:gd name="adj1" fmla="val -45064"/>
              <a:gd name="adj2" fmla="val 95601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Select “non-redunda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5. Download the Files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933" t="15215" r="4676" b="10533"/>
          <a:stretch/>
        </p:blipFill>
        <p:spPr>
          <a:xfrm>
            <a:off x="304920" y="1219320"/>
            <a:ext cx="8523000" cy="536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Finding HapMap SNPs in a Region of Interest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region of the genome containing the DTNBP1 ge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the characterized SNPs in the reg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ew the patterns of LD in the reg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ck tag SNP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wnload the region in Haploview form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For Further Information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s guide to HapMap.or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hapmap.cshl.org/downloads/presentations/users_guide_to_hapmap.pd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pMap Publications &amp; Guide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hapmap.cshl.org/publications.html.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915" t="13830" r="2636" b="5322"/>
          <a:stretch/>
        </p:blipFill>
        <p:spPr>
          <a:xfrm>
            <a:off x="228600" y="1066680"/>
            <a:ext cx="8534520" cy="5791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1: Surf to the HapMap Browser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1219320"/>
            <a:ext cx="2971800" cy="685800"/>
          </a:xfrm>
          <a:prstGeom prst="wedgeRoundRectCallout">
            <a:avLst>
              <a:gd name="adj1" fmla="val -90115"/>
              <a:gd name="adj2" fmla="val 64120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a. Go to www.hapmap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5334120"/>
            <a:ext cx="3124440" cy="685800"/>
          </a:xfrm>
          <a:prstGeom prst="wedgeRoundRectCallout">
            <a:avLst>
              <a:gd name="adj1" fmla="val -83689"/>
              <a:gd name="adj2" fmla="val 114814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b. Select “Browse Project D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93" t="14331" r="2640" b="37481"/>
          <a:stretch/>
        </p:blipFill>
        <p:spPr>
          <a:xfrm>
            <a:off x="47520" y="1295280"/>
            <a:ext cx="9096480" cy="3470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: Search for DTNBP1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2781360"/>
            <a:ext cx="2971800" cy="685800"/>
          </a:xfrm>
          <a:prstGeom prst="wedgeRoundRectCallout">
            <a:avLst>
              <a:gd name="adj1" fmla="val -82958"/>
              <a:gd name="adj2" fmla="val 123148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Type search term – “DTNBP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991040"/>
            <a:ext cx="4037040" cy="1459080"/>
          </a:xfrm>
          <a:prstGeom prst="cloudCallout">
            <a:avLst>
              <a:gd name="adj1" fmla="val -31953"/>
              <a:gd name="adj2" fmla="val -794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 data source menu to select a different data release. Current release is the defau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5143680"/>
            <a:ext cx="3579840" cy="1458720"/>
          </a:xfrm>
          <a:prstGeom prst="cloudCallout">
            <a:avLst>
              <a:gd name="adj1" fmla="val -18037"/>
              <a:gd name="adj2" fmla="val -11747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arch for a gene name, a chromosome band, or a phrase like “insulin recepto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326" t="14849" r="4003" b="6327"/>
          <a:stretch/>
        </p:blipFill>
        <p:spPr>
          <a:xfrm>
            <a:off x="309600" y="1143000"/>
            <a:ext cx="8377200" cy="5638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3: Examine Region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819440"/>
            <a:ext cx="3503520" cy="1270080"/>
          </a:xfrm>
          <a:prstGeom prst="cloudCallout">
            <a:avLst>
              <a:gd name="adj1" fmla="val -32833"/>
              <a:gd name="adj2" fmla="val 9474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romosome-wide summary data is shown in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3809880"/>
            <a:ext cx="3503880" cy="2395800"/>
          </a:xfrm>
          <a:prstGeom prst="cloudCallout">
            <a:avLst>
              <a:gd name="adj1" fmla="val -44208"/>
              <a:gd name="adj2" fmla="val 549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fault tracks show HapMap genotyped SNPs, named genes from Entrez, and alternative mRNA splicing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242" t="13737" r="2655" b="6153"/>
          <a:stretch/>
        </p:blipFill>
        <p:spPr>
          <a:xfrm>
            <a:off x="34920" y="1089000"/>
            <a:ext cx="9080640" cy="5769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3: Examine Region (cont)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143000"/>
            <a:ext cx="3503880" cy="1645200"/>
          </a:xfrm>
          <a:prstGeom prst="cloudCallout">
            <a:avLst>
              <a:gd name="adj1" fmla="val 66805"/>
              <a:gd name="adj2" fmla="val -1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 the Scroll/Zoom buttons and menu to change position &amp; magn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895480"/>
            <a:ext cx="2967120" cy="2020320"/>
          </a:xfrm>
          <a:prstGeom prst="cloudCallout">
            <a:avLst>
              <a:gd name="adj1" fmla="val -11546"/>
              <a:gd name="adj2" fmla="val 6462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 you zoom in, the display changes to indicate more detai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167" t="13802" r="3157" b="8658"/>
          <a:stretch/>
        </p:blipFill>
        <p:spPr>
          <a:xfrm>
            <a:off x="250920" y="1311120"/>
            <a:ext cx="8466120" cy="5546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4: Turn on LD &amp; Haplotype Tracks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878360"/>
            <a:ext cx="3503880" cy="2395800"/>
          </a:xfrm>
          <a:prstGeom prst="cloudCallout">
            <a:avLst>
              <a:gd name="adj1" fmla="val -61277"/>
              <a:gd name="adj2" fmla="val 1811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se sections allow you to adjust the display and to superimpose your own data on the Hap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057400"/>
            <a:ext cx="2971800" cy="1295280"/>
          </a:xfrm>
          <a:prstGeom prst="wedgeRoundRectCallout">
            <a:avLst>
              <a:gd name="adj1" fmla="val -50212"/>
              <a:gd name="adj2" fmla="val 92893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a. Scroll to “Tracks” section and turn on the LD Plot and Haplotype Display tr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4495680"/>
            <a:ext cx="2514600" cy="685800"/>
          </a:xfrm>
          <a:prstGeom prst="wedgeRoundRectCallout">
            <a:avLst>
              <a:gd name="adj1" fmla="val 20958"/>
              <a:gd name="adj2" fmla="val 138888"/>
              <a:gd name="adj3" fmla="val 16667"/>
            </a:avLst>
          </a:prstGeom>
          <a:solidFill>
            <a:srgbClr val="f0da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b. Press “Update Im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915" t="13782" r="4361" b="5260"/>
          <a:stretch/>
        </p:blipFill>
        <p:spPr>
          <a:xfrm>
            <a:off x="228600" y="1066680"/>
            <a:ext cx="8381880" cy="5791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5: View variation patterns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5640480" y="4724280"/>
            <a:ext cx="3503520" cy="1645200"/>
          </a:xfrm>
          <a:prstGeom prst="cloudCallout">
            <a:avLst>
              <a:gd name="adj1" fmla="val -43486"/>
              <a:gd name="adj2" fmla="val 5835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iangle plot shows LD values using 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r D’ in one or more HapMap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40480" y="1295280"/>
            <a:ext cx="3503520" cy="2020320"/>
          </a:xfrm>
          <a:prstGeom prst="cloudCallout">
            <a:avLst>
              <a:gd name="adj1" fmla="val -18018"/>
              <a:gd name="adj2" fmla="val 8637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hased haplotype track shows all 180 chromosomes with alleles colored yellow and b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00:02Z</dcterms:created>
  <dc:creator>Lincoln Stein</dc:creator>
  <dc:description/>
  <dc:language>en-US</dc:language>
  <cp:lastModifiedBy>Lincoln Stein</cp:lastModifiedBy>
  <dcterms:modified xsi:type="dcterms:W3CDTF">2005-10-27T04:01:31Z</dcterms:modified>
  <cp:revision>80</cp:revision>
  <dc:subject/>
  <dc:title>Slide 1</dc:title>
</cp:coreProperties>
</file>